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8BEE-0E81-4BDA-B369-EA92630A6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B2DB-309D-413D-A06E-043F0201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3C1E-9083-4E6F-A1B5-AEAFF5793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E087-6E8C-451F-86F8-EFC7CADC8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2E4F-1838-4235-8496-FC168E15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6CB8-C357-4D75-9343-4A35F5A7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9218-6AFD-4D86-A5FC-8CD38AB9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746B-CEAD-4855-9DF6-A592F479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DB71-4DCF-481D-BAC8-216E8C96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DC56-6960-4173-AD9B-141254A1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E1C8-8C40-4609-8025-E83101F5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BCF2-CB8A-48F7-AACD-AB7B5B3B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6EA9-94D3-481F-B607-2913103FC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ragon Gets B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-474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bag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wi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i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am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8. if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9. dig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10. sa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11. wa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40384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5. hi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6. ha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7. ra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266720" y="-360"/>
            <a:ext cx="487692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12. I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13. scratch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14. picnic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ragon Gets B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am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i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bag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5. sa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6. wa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7. I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Dragon Gets B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p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scratch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picnic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drago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packe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8. kitche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9. stil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10. blac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11. snac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380520"/>
            <a:ext cx="40384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5. unti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6. wago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7. faster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0:54:43Z</dcterms:created>
  <dc:creator>Kathryn.Cobb</dc:creator>
  <dc:description/>
  <dc:language>en-US</dc:language>
  <cp:lastModifiedBy> </cp:lastModifiedBy>
  <dcterms:modified xsi:type="dcterms:W3CDTF">2008-09-07T19:57:19Z</dcterms:modified>
  <cp:revision>4</cp:revision>
  <dc:subject/>
  <dc:title>The Art Lesson Group A</dc:title>
</cp:coreProperties>
</file>